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D32-06A9-48B1-BA39-7348D8D3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AEB-59B4-4D85-9471-88F26ED1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766-285F-4152-B343-2D81454D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9E2-D894-40D5-BD25-F56F7B81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861E-11A8-45F0-B0E3-06FC54BE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A4D4-A3C1-4547-AFF1-DF11EAE9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D8CA-74CF-4B2E-BD69-55CA1A3D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15E8-9720-4EF9-BF94-AB01051E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0728-513E-4C94-9512-C2A4FAC6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E540-DD8D-46B2-82CA-51C9FE14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B546-CD8B-41FC-BDE6-CF823223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D96-39A4-457C-A8E9-6ABE0ED9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6FFD-1467-405B-BC59-DEF20A1C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227A-EB51-4185-B0B2-DB645D97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3782-FF73-4A54-9D3C-300483A5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C508-CA46-4BC2-8683-A33ED665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D7DA-1782-4DAA-AFC1-04AFA8AD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DFE1F-6B28-44C5-AB9C-E6C3DBDE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BB4B7-8CEE-439E-AF76-F60C5AF1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B200C-7E99-4091-82BE-160EBBF3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D34C7-98F3-4458-9273-BCCD3A71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95212-2ED8-4783-96F6-16A852E5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FC6-D57F-40A6-B981-B1E086CD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58737-1474-4920-8AAE-DB9792A4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CB19A-E212-4C40-A274-2E813361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1A80B-D3BA-439D-B7CC-10527548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4D705-9222-41F3-BF8A-ACF9A2AE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C8662-574E-4828-BABE-8336B2AF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E80DC-D78F-412F-80FF-2489368D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1E48E-44FB-4BC9-B0B8-5B26BA8F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ADD4E-CEE3-45C1-A18C-AFE632C8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DD581-9A61-4EDC-A30D-535BBA2A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8CFBC-AE1B-45AB-B2DF-95C7E066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22F-22C9-40C3-94A9-EE238431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F1A38-7D8B-4D82-92EF-E96E50CC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7A51B-EA6E-42AA-B931-4E1B94EB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6D512-FB17-4ACC-B046-F4759566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597CE-685A-44BE-BA09-586EEFF4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FF0ED-6437-4556-A077-7E52353B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C2B4F-FDDC-4F55-83EF-02394358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1366B-DE7E-4298-9985-732EFDFF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5E8B2-9230-4648-93D3-D2B24294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0B763-39A6-4925-A08A-939E4727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F8904A-E6D5-4B5A-ADB7-4086E198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386-1901-4FFB-BD62-5C006E64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CF74A-C524-423E-8307-D8751F49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570482-A8A5-4255-8F2F-7B03DA77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3034D-B45B-4A48-9AB8-89554B3E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0A7B6-70E1-4917-A835-92C75AD1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4164A-F69F-4736-8E7E-4C4D9881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46375-F7A1-41B9-9F77-52D6016E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87ACD-E540-40FD-9AE1-45F80A6A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C3ED5F-8D60-4B1E-9EEF-F41234DD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D6251-7299-464D-82C8-F9CF7F73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9CC48-B67A-4C68-AAAC-DB9921C6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BE5-86B8-42C9-9A25-F378E967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911EC4-8042-4535-B228-E3D1096D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FE397E-330C-4190-9424-E0BEFFB3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9F168C-7092-431D-8F8B-4B0E1C22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0015F4-F3A3-47E3-85D1-D8348D42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76C33-51A1-4FD9-AD7B-7E97FD2A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FBF3FB-FC72-4E45-B8FE-203E9A37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7C632-54D5-424A-A276-38A34C3C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D40EC3-C588-4104-8C35-845010D0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979220-1E13-4F31-89AA-17A5D852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5CE8F7-4C53-4D85-AD9D-C8FA6215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849-2E64-4BAC-BEBB-950FA13E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8A647-703C-46AF-B3F7-BA25BD3C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CCC3AB-6163-4287-97F9-C22EF649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F6B62-B353-4076-AB02-07C35465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868E22-C5AD-407A-8160-C6C23C1A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1C12C-D583-4948-A8BE-A693A2A1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B0D948-8A8B-4C8A-BD54-DEB20DCB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389DD-8C76-473E-A50A-8A0E9B77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92242B-FEE9-4897-8EDE-28AD9517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CDEA74-6B75-413F-9B1C-74E701CE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20978-EEEB-47B3-9BC7-77B8BCB6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2C6-1119-4FC1-8C5E-202A5FDD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53EBAD-52BF-4DF7-811C-BFD9E888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C999C9-4234-4337-B579-A716EA3A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034DB3-1E00-458A-B8C9-0972F88C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0652E-EA3C-4B48-9396-C2EA12DB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5DD200-1103-4CB4-88CD-DC9D3ABC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DAC-8E34-4411-99E1-46873C88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7DE2-3BF6-4BF8-815B-604D193F4850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C361-82FC-40C9-AB16-4B026B33DE7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1D11-79C0-4EB7-86A4-71C633B1EB74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2D3E-8A49-4953-A5E6-7DCB6DA400A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11FE-7463-4373-8016-99EEAB5B991F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7487-988F-4C48-BD18-080CC18319D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82E8-6001-4667-9C82-12481ED9CFB0}" type="datetime">
              <a:rPr b="0" lang="en-US" sz="1200" spc="-1" strike="noStrike">
                <a:solidFill>
                  <a:srgbClr val="fff39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09BA-7136-40C5-80C4-84AE4BAB38A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72C1-3530-44F9-9CEA-09324AD4EC21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7A0E-A21D-46C1-B0DA-6FE3451E0C5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171F-AE8F-4E73-BD3F-E96D3E26C094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9C0E-EA9D-4478-AF2D-4AC5603D4FC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E93F-DB44-4A7F-968A-483F18506F24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45F4-84DB-4E20-B1A2-D2C7FC74896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://www.aboriginalartnews.com.au/photos/colleen_wallace_nungari_dreamtime_sisters_imag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352" name="TextBox 4" descr=""/>
          <p:cNvPicPr/>
          <p:nvPr/>
        </p:nvPicPr>
        <p:blipFill>
          <a:blip r:embed="rId2"/>
          <a:stretch/>
        </p:blipFill>
        <p:spPr>
          <a:xfrm>
            <a:off x="2004840" y="2859120"/>
            <a:ext cx="5170680" cy="2176560"/>
          </a:xfrm>
          <a:prstGeom prst="rect">
            <a:avLst/>
          </a:prstGeom>
          <a:ln w="0">
            <a:noFill/>
          </a:ln>
        </p:spPr>
      </p:pic>
      <p:sp>
        <p:nvSpPr>
          <p:cNvPr id="35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35F2-81C9-458A-A153-7C5D9816BC5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304920" y="380880"/>
            <a:ext cx="5105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 chose sisters for my collected anthology. For me, sisters are so big, they help you so much. So I decided to make a tribute to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C:\Documents and Settings\TwLab\Local Settings\Temporary Internet Files\Content.IE5\9BD1XLZZ\MPj01785250000[1].jpg"/>
          <p:cNvPicPr/>
          <p:nvPr/>
        </p:nvPicPr>
        <p:blipFill>
          <a:blip r:embed="rId1"/>
          <a:stretch/>
        </p:blipFill>
        <p:spPr>
          <a:xfrm>
            <a:off x="4800600" y="4952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C:\Documents and Settings\TwLab\Local Settings\Temporary Internet Files\Content.IE5\ZCI6PB8U\MPj01850660000[1].jpg"/>
          <p:cNvPicPr/>
          <p:nvPr/>
        </p:nvPicPr>
        <p:blipFill>
          <a:blip r:embed="rId2"/>
          <a:stretch/>
        </p:blipFill>
        <p:spPr>
          <a:xfrm>
            <a:off x="6724800" y="1295280"/>
            <a:ext cx="2419200" cy="3657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C:\Documents and Settings\TwLab\Local Settings\Temporary Internet Files\Content.IE5\9BD1XLZZ\MCPE02273_0000[1].wmf"/>
          <p:cNvPicPr/>
          <p:nvPr/>
        </p:nvPicPr>
        <p:blipFill>
          <a:blip r:embed="rId3"/>
          <a:stretch/>
        </p:blipFill>
        <p:spPr>
          <a:xfrm>
            <a:off x="5257800" y="0"/>
            <a:ext cx="1812960" cy="182880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0ECB-C70F-488E-BD94-C1F487009C6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2"/>
          <p:cNvSpPr/>
          <p:nvPr/>
        </p:nvSpPr>
        <p:spPr>
          <a:xfrm>
            <a:off x="2506680" y="0"/>
            <a:ext cx="459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9cf7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43560" y="1676520"/>
            <a:ext cx="9048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1: In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2: Why I chose si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3:Table of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4: MY SISTER by Carniz Fati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5: Sisters Forever by Sara Hammou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6:A Sister by Sara Hammou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7: 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A54D-6BB8-4627-9E34-C5CE42210CA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3048120" y="274680"/>
          <a:ext cx="4370400" cy="6583320"/>
        </p:xfrm>
        <a:graphic>
          <a:graphicData uri="http://schemas.openxmlformats.org/drawingml/2006/table">
            <a:tbl>
              <a:tblPr/>
              <a:tblGrid>
                <a:gridCol w="4370400"/>
              </a:tblGrid>
              <a:tr h="6584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olds me tigh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isses me goodnight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nows when I’m ma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elps me when I’m sa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so smar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as my hear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loves me lot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ties the knot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here to sta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 have until this very da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 wish you w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yes I can t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asked if I lie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nows if I’ve cri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as moved away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in my heart to and will always stay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arniz Fatima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3" name="Picture 6" descr="http://www.raisingthearts.com/images/Sisters%20Journey%20big.jpg"/>
          <p:cNvPicPr/>
          <p:nvPr/>
        </p:nvPicPr>
        <p:blipFill>
          <a:blip r:embed="rId1"/>
          <a:stretch/>
        </p:blipFill>
        <p:spPr>
          <a:xfrm>
            <a:off x="52560" y="2133720"/>
            <a:ext cx="2322360" cy="321624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9FE0-F49C-42AA-BDEB-B650338BCA7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3048120" y="380880"/>
          <a:ext cx="2792160" cy="6442200"/>
        </p:xfrm>
        <a:graphic>
          <a:graphicData uri="http://schemas.openxmlformats.org/drawingml/2006/table">
            <a:tbl>
              <a:tblPr/>
              <a:tblGrid>
                <a:gridCol w="398520"/>
                <a:gridCol w="2393640"/>
              </a:tblGrid>
              <a:tr h="644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760" rIns="41760" tIns="20880" bIns="20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for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verything you did or still d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 matter what happen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me or to you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will always make it through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's Now or n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use you will always know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at we will always b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AND AL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ough you may thin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d your heart may sin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ut sister always rememb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LOVE YOU for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use I’m you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 FOR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o don't cry or weep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t even when you sleep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Just dream happy dream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ecause life's not always what it seem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irl rememb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will always b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FOR EVER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ra Hammour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1" descr="C:\Documents and Settings\TwLab\Local Settings\Temporary Internet Files\Content.IE5\PDS1BFZB\MCj00894680000[1].wmf"/>
          <p:cNvPicPr/>
          <p:nvPr/>
        </p:nvPicPr>
        <p:blipFill>
          <a:blip r:embed="rId1"/>
          <a:stretch/>
        </p:blipFill>
        <p:spPr>
          <a:xfrm>
            <a:off x="838080" y="2362320"/>
            <a:ext cx="1779840" cy="1217520"/>
          </a:xfrm>
          <a:prstGeom prst="rect">
            <a:avLst/>
          </a:prstGeom>
          <a:ln w="0">
            <a:noFill/>
          </a:ln>
        </p:spPr>
      </p:pic>
      <p:sp>
        <p:nvSpPr>
          <p:cNvPr id="36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DA30-AF84-49FB-9881-B6CA10EC5BC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2895480" y="228600"/>
          <a:ext cx="3429000" cy="6878520"/>
        </p:xfrm>
        <a:graphic>
          <a:graphicData uri="http://schemas.openxmlformats.org/drawingml/2006/table">
            <a:tbl>
              <a:tblPr/>
              <a:tblGrid>
                <a:gridCol w="266760"/>
                <a:gridCol w="3162240"/>
              </a:tblGrid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1480" rIns="5148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leads you when you are having a problem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makes you laugh and cry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likes to fight with you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the one who stands with you in all your ups and downs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makes you remember who you really are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sometimes makes you cry when they are very sad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is always there for you through all the laughter and tears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real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never will pretend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like you whom I treasure everyday in my heart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ra Hammour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6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69" name="Picture 1" descr="C:\Documents and Settings\TwLab\Local Settings\Temporary Internet Files\Content.IE5\XSF37IBG\MCj01160460000[1].wmf"/>
          <p:cNvPicPr/>
          <p:nvPr/>
        </p:nvPicPr>
        <p:blipFill>
          <a:blip r:embed="rId1"/>
          <a:stretch/>
        </p:blipFill>
        <p:spPr>
          <a:xfrm>
            <a:off x="380880" y="1143000"/>
            <a:ext cx="2743200" cy="407520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0AC1-75F0-4D0E-B20D-6582976C867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3E0A-0844-4BEC-9897-5F4F01B9FBB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"/>
          <p:cNvSpPr/>
          <p:nvPr/>
        </p:nvSpPr>
        <p:spPr>
          <a:xfrm>
            <a:off x="1371600" y="1295280"/>
            <a:ext cx="563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poems were chosen because they all related to my theme, and I thought they would be good for a tribute to sisters. I learned a 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1" descr=""/>
          <p:cNvPicPr/>
          <p:nvPr/>
        </p:nvPicPr>
        <p:blipFill>
          <a:blip r:embed="rId1"/>
          <a:stretch/>
        </p:blipFill>
        <p:spPr>
          <a:xfrm>
            <a:off x="920880" y="658800"/>
            <a:ext cx="7729560" cy="4827600"/>
          </a:xfrm>
          <a:prstGeom prst="rect">
            <a:avLst/>
          </a:prstGeom>
          <a:ln w="0">
            <a:noFill/>
          </a:ln>
        </p:spPr>
      </p:pic>
      <p:sp>
        <p:nvSpPr>
          <p:cNvPr id="374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6AA7-AA53-4749-AFD7-D57DB8DB7E3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1:03:27Z</dcterms:created>
  <dc:creator>ITSUser</dc:creator>
  <dc:description/>
  <dc:language>en-US</dc:language>
  <cp:lastModifiedBy>ITSUser</cp:lastModifiedBy>
  <dcterms:modified xsi:type="dcterms:W3CDTF">2009-05-13T21:26:48Z</dcterms:modified>
  <cp:revision>8</cp:revision>
  <dc:subject/>
  <dc:title>Slide 1</dc:title>
</cp:coreProperties>
</file>